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5594-48D1-4BA6-8421-A341A5DB1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2A01-7CE2-4D8D-A26C-4F8A87F2D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F3AD-AB31-49B0-B610-8A2A95484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7BB2-F624-4A1C-8FF8-F50D64451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CD2F-3AB5-4329-AC6A-FF89EC1AD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3C68-0DEF-4AD7-9C6D-358A2C3C4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BA75-4D3E-48EB-8A1B-388EAF1E2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803-4217-4597-BC68-7A2D7F2E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554-5180-4C85-888D-563740F4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FB3-680C-4EB1-AE45-0B2C5394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E98-5F88-4F1F-A791-2B2AFDEE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422-9A92-4332-9F00-E74368D3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31A-2A8A-4BC7-B0BF-4F3D772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F1F-C266-4D51-AFDA-E904E30C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317-FFEA-4D8F-BBF0-B8B56854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0A1-0A55-44CD-B286-8DFB8FA8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E75-D044-40D5-A3BC-3D5A4B08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72B-334A-4779-8968-E3B06CC1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797-0167-48BE-8483-C515FAE8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DAED-E398-457F-A745-2BECF6DB5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Introductory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dentify the 8 causal principles that will guide the activities in this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Match the causal principle to scenarios about the Earth and environ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8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edback Loop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n accelerate, decelerate, or dampen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Posi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the system causes further changes in the system such that some component in the system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increases overall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Nega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a system causes and opposite response in the system such that the system is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closer to 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In this case, the negative feedback component will decrease the size of the changes going on in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Introduc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0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1. Gravitational energy, thermal energy and/or chemic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rive all movement and change of matter on Earth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038480" y="6477120"/>
            <a:ext cx="510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us.123rf.com/400wm/400/400/uulgaa/uulgaa0810/uulgaa081000020/3695914-stainless-steel-pot-on-a-gas-stove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876920" y="160020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hemical energy </a:t>
            </a:r>
            <a:r>
              <a:rPr b="0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in natural gas being burned and converted into </a:t>
            </a: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potonstove.jpg"/>
          <p:cNvPicPr/>
          <p:nvPr/>
        </p:nvPicPr>
        <p:blipFill>
          <a:blip r:embed="rId1"/>
          <a:stretch/>
        </p:blipFill>
        <p:spPr>
          <a:xfrm>
            <a:off x="4746600" y="3581280"/>
            <a:ext cx="4397400" cy="2946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0" y="624852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rolive.org/photo_gallery/photos-skateboarder-7/alex_ollie_skatepark_bordeaux_skate_ouest_tour_09.sized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skateboarder.jpg"/>
          <p:cNvPicPr/>
          <p:nvPr/>
        </p:nvPicPr>
        <p:blipFill>
          <a:blip r:embed="rId2"/>
          <a:stretch/>
        </p:blipFill>
        <p:spPr>
          <a:xfrm>
            <a:off x="0" y="3124080"/>
            <a:ext cx="4495680" cy="2989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1"/>
          <p:cNvSpPr/>
          <p:nvPr/>
        </p:nvSpPr>
        <p:spPr>
          <a:xfrm>
            <a:off x="0" y="13716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Gravitational energy</a:t>
            </a:r>
            <a:r>
              <a:rPr b="0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 can be stored (potential) or drive motion towards Earth (kin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04920" y="12193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gs are changing in the system but there is an overall net balan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What is changing in this picture?  How can this container be in </a:t>
            </a:r>
            <a:r>
              <a:rPr b="1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Water is being added to and removed from the container.  If the amount added equals the amount removed, the container i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181480" y="609588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image.wistatutor.com/content/chemical-equilibrium/dynamic-equilibrium.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dynamic-equilibrium.jpg"/>
          <p:cNvPicPr/>
          <p:nvPr/>
        </p:nvPicPr>
        <p:blipFill>
          <a:blip r:embed="rId1"/>
          <a:stretch/>
        </p:blipFill>
        <p:spPr>
          <a:xfrm>
            <a:off x="5105520" y="1600200"/>
            <a:ext cx="3665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3. Matter moves and changes to return a system to equilibriu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re are more molecules on one side of a barrier than the other.  The molecules will move until both sides have the same number of molecules, and therefore are at 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838080" y="6581880"/>
            <a:ext cx="74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upload.wikimedia.org/wikipedia/commons/thumb/7/72/Diffusion.en.svg/800px-Diffusion.en.svg.p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800px-Diffusion.en.png"/>
          <p:cNvPicPr/>
          <p:nvPr/>
        </p:nvPicPr>
        <p:blipFill>
          <a:blip r:embed="rId1"/>
          <a:stretch/>
        </p:blipFill>
        <p:spPr>
          <a:xfrm>
            <a:off x="838080" y="2398680"/>
            <a:ext cx="74678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4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80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b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bf"/>
                </a:solidFill>
                <a:latin typeface="Arial"/>
              </a:rPr>
              <a:t>Boiling water requires heat convert liquid water into water vapor (g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4572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hatscookingamerica.net/Foto4/BoilingWater.b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oilingWater.bmp"/>
          <p:cNvPicPr/>
          <p:nvPr/>
        </p:nvPicPr>
        <p:blipFill>
          <a:blip r:embed="rId1"/>
          <a:stretch/>
        </p:blipFill>
        <p:spPr>
          <a:xfrm>
            <a:off x="304920" y="2362320"/>
            <a:ext cx="298908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eatCool.gif"/>
          <p:cNvPicPr/>
          <p:nvPr/>
        </p:nvPicPr>
        <p:blipFill>
          <a:blip r:embed="rId2"/>
          <a:stretch/>
        </p:blipFill>
        <p:spPr>
          <a:xfrm>
            <a:off x="3621240" y="1219320"/>
            <a:ext cx="4252680" cy="2921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4495680" y="635328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038480" y="4572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hase change either use up or release heat energy.  Boiling (vaporization) uses up heat while condensation releases he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5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can be thought of as the Kinetic Energy of molecules, or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6. When molecules move faster,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04920" y="167148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5105520" y="6400800"/>
            <a:ext cx="39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1371600"/>
            <a:ext cx="340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7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oya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0" y="5734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6765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7:20:31Z</dcterms:created>
  <dc:creator>Julie Libarkin</dc:creator>
  <dc:description/>
  <dc:language>en-US</dc:language>
  <cp:lastModifiedBy>Nicole LaDue</cp:lastModifiedBy>
  <dcterms:modified xsi:type="dcterms:W3CDTF">2011-01-05T21:23:08Z</dcterms:modified>
  <cp:revision>320</cp:revision>
  <dc:subject/>
  <dc:title>PowerPoint Presentation</dc:title>
</cp:coreProperties>
</file>